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B6F-881C-41BA-ADDF-4F2598A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40E-75B8-4ED0-A9AA-A875D82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03C-6FD2-4B89-9851-696FB333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CB0-28E8-4515-9AFA-171EE447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731-02E6-4008-99D7-62CFE91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7BC-3065-40F5-9B18-B0BB5DD4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989-2418-4377-A45E-34A925B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D66-7822-4580-A233-E46169EA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4DB-B871-4404-BBC7-1C1FB77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3CD-CF6E-4369-B413-DA03BFB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8FA-8771-4F96-A182-9C1E124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564-1369-49FB-B408-F667657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72368-40BF-4997-99AB-B2F70716C6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60" y="6868080"/>
            <a:ext cx="33368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) Aparece la especie hu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" y="5373720"/>
            <a:ext cx="668376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 Las plantas (Briofitas = musgos) y los animales (Artrópod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en del agua y coloniza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40" y="4959720"/>
            <a:ext cx="3718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 Se diversifican los inverteb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440" y="4542480"/>
            <a:ext cx="3439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 Los reptiles dominan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40" y="4110480"/>
            <a:ext cx="61153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 Primeros seres vivos pluricelulares: algas rojas y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120" y="3700800"/>
            <a:ext cx="53913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 Comienza a liberarse oxígeno hacia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40" y="3269160"/>
            <a:ext cx="52221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 Aparecen los vertebrados = peces acora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280" y="2835720"/>
            <a:ext cx="49111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 Formación de las primeras ro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0" y="2404080"/>
            <a:ext cx="4393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Primeros metazoos: fauna de Edia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1972080"/>
            <a:ext cx="38581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Formación de océanos primi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840" y="1540440"/>
            <a:ext cx="271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Formación de la L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00" y="1111680"/>
            <a:ext cx="34160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Gran bombardeo meteo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160" y="713160"/>
            <a:ext cx="54446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Formación de la primera atmósfera (sin oxíge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91600" y="5834160"/>
            <a:ext cx="345420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) Los mamíferos se diversif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xtienden por toda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360" y="4278600"/>
            <a:ext cx="357912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) Gran extinción Cretácic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mpacto de una gran meteo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5120" y="3821760"/>
            <a:ext cx="382320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) Surgen los Mamíferos y las 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120" y="6053760"/>
            <a:ext cx="59245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) La atmósfera alcanza los niveles actuales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0" y="6450480"/>
            <a:ext cx="69274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) Los vertebrados conquistan la Tierra: peces - anfibios – rep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17760" y="7059960"/>
            <a:ext cx="49219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) Continúa la expansión del Océano Atlán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6560" y="2942280"/>
            <a:ext cx="4630680" cy="87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) Aparecen los dinosaurios y otros gr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tiles, que se extenderán por todos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es y continentes y dominará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55720" y="2561040"/>
            <a:ext cx="28828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) Gran extinción P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42800" y="2154600"/>
            <a:ext cx="23738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) Aparición de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0080" y="1754640"/>
            <a:ext cx="31874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) Se forma el último Pang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3120" y="1324440"/>
            <a:ext cx="44935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 Comienza a formarse la capa de O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97520" y="628920"/>
            <a:ext cx="325152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) Surgen las Espermatófi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tas con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43920" y="172080"/>
            <a:ext cx="280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720" y="288000"/>
            <a:ext cx="280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9120" y="176040"/>
            <a:ext cx="9672840" cy="72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                                         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PUT INTO A SENSIBL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Formación de la primera atmósfera (sin oxíge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Gran bombardeo meteo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Formación de la L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Formación de océanos primi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Primeros metazoos: fauna de Edia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 Formación de las primeras ro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 Aparecen los vertebrados = peces acora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 Comienza a liberarse oxígeno hacia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 Primeros seres vivos pluricelulares: algas rojas y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 Los reptiles dominan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 Se diversifican los inverteb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 Las plantas (Briofitas = musgos) y los animales (Artrópodos) salen del agua y coloniza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) La atmósfera alcanza los niveles actuales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) Los vertebrados conquistan la Tierra: peces - anfibios – rep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) Aparece la especie hu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) Surgen las Espermatófitas, plantas con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 Comienza a formarse la capa de O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) Se forma el último Pang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) Aparición de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) Gran extinción P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) Aparecen los dinosaurios y otros grandes reptiles, que se extenderán por todos los ma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nentes y dominará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) Surgen los Mamíferos y las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) Gran extinción Cretácica por el impacto de una gran meteo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) Los mamíferos se diversifican y se extienden por toda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) Continúa la expansión del Océano Atlán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8:42:04Z</dcterms:created>
  <dc:creator/>
  <dc:description/>
  <dc:language>en-US</dc:language>
  <cp:lastModifiedBy/>
  <dcterms:modified xsi:type="dcterms:W3CDTF">2013-01-14T16:24:25Z</dcterms:modified>
  <cp:revision>7</cp:revision>
  <dc:subject/>
  <dc:title/>
</cp:coreProperties>
</file>